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0C51-4207-4F14-A4D8-F80E13CBB3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196E-627B-4105-BB79-44A75F2AAA4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3352-9099-4691-9EB2-53F8F69156C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8C1E-22C0-4FDB-B565-E0B463896D7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2E55D-0B7C-4C01-B1FE-88B325FFC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4302-801E-4324-8980-2F525F1C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8434C-C205-42C2-B43C-19D8367F1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CC39B-2F50-49C7-BC70-A1DA00655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176D4-81C2-4FE1-9207-452827A22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08A4C-559D-4EA0-A917-7A513C53E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903A6-8345-406E-A26C-7DDA7D2B3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9ACB7-D49F-443D-A497-C2F5AF4C9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76ED4-BA64-4424-8DAA-4F0B4630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A693C-4E5A-44A8-BBC5-6FFD1549A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9AB5-446D-4E68-8C29-B7BDC838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AF50-2C77-48AC-96D6-4CB6EAD01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3A64D-4234-4FD1-9D31-195651305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0FD3-81A2-41DB-B4B2-04AF03A1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2831A-478C-4805-AFBB-B82BE034A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93FE6-8076-45D2-8A86-02FE8EA5A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D6D57-980D-437F-8F3E-5AB654F4B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8CCA3-E2FC-4AD9-8D64-ED5B14616B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DF709-19F1-4CB1-B734-B27AC41D0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FA123-0C63-408B-9CC8-23C585170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1DB79-7285-4D8E-A7DC-C7D007C17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7F9D0-B672-4FB6-90EB-4487656A9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C610-000B-48A4-A930-65A25569E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A575A-6EBF-4737-A391-B24FFBE78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49856-4855-474A-83EB-BE92B47EA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C5B28-C523-4C74-9336-DEE832487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F514B-9910-4E3B-A945-577DDB6F7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069E6-DD77-421C-8EDE-4D992017B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0CE62-5661-4F23-BAA5-C67CF9DE7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4C07A7-D731-42DC-B24B-F354E992B4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54C33-5DF5-4C74-AB98-BE4D0949E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4B590-4092-415D-B19C-CE5BD13EA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F47DA5-4685-4F7F-BBFC-15B5C603F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49889-EEEA-4278-AF4C-E8F83D0D1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3C2D8-0A20-40D6-A898-AEFE4349F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5C61E-FD32-42EA-8708-4487C42B0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D177B-C9A4-4EDC-B934-D6771E4D4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7F895-DA1A-4BBE-8C5F-C05F10724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FE756-FB58-4418-BCBA-665B59691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13AB3-5B59-4223-B601-8A45C435D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BC9A6-C370-4B8B-A365-D1CF2F2AF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0826E6-9ECA-4318-9A29-6CABDF75D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39790-904C-493D-8BFB-3DF4936B5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4E4A5-9571-4AD9-9967-98CCA107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10F03-AF85-45A0-8A77-48E8A320C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9B1F-5FE4-4D20-B9CB-9AE203CE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E4B4-23C3-46EB-837C-E0E49B36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A5CB-D5A8-4BA8-BE0D-5EA793A46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680F-A1DD-4ABE-95AB-FDAF06335A7D}"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B084-F1EC-46FF-9523-66526268E7D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1A78-4B71-4475-A86D-C3C23839F579}"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6517-2F09-4AD8-B5E0-7D3D9619C49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328C-307E-4506-B2A5-9859D5945F4B}"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254B-A9CB-4DE5-89FF-2A000E58089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37BE-858A-4187-AEA8-ABA4AD6CAD1A}"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0A1-DDC5-46F3-ACC3-D373FB7AB28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C5CA-B8E2-405B-A4B3-9138B5318094}" type="datetime">
              <a:rPr b="0" lang="en-US" sz="1200" spc="-1" strike="noStrike">
                <a:solidFill>
                  <a:srgbClr val="d1eaee"/>
                </a:solidFill>
                <a:latin typeface="Verdana"/>
              </a:rPr>
              <a:t>07/31/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FDF4-6EA4-4D0C-AC3E-64B9C63F9E8F}"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B1E9-0D6C-400A-9C32-C88F7AE444E3}"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2684-2F61-48C3-9B1E-AB45F1D0625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4B28-7B29-469A-A0FE-474B00C86F86}"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CE1B-5AA3-4F10-BE70-A74DC2D221F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2DCB-2F29-4B76-8957-4EDC1CB38E4D}"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1E51-18E3-4C42-A223-1D56FFBA798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A7D2-42B2-497A-9B51-4A4BC151FFD7}"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2AD8-E0B8-497E-87DB-FC4DF193462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E423-83F9-45ED-A889-0DF874A7075D}"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DEA7-5BA2-44A9-9A0C-6EF1E97805D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FEF8-2C87-453C-80FC-1D753B54BCA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F8B1-85FD-4F8C-A097-9160532664E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4712-CB8B-4A60-AFB5-99B7C3C2E124}"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9EF6-52E6-4CCE-A4B1-1C341FA0701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D8A9-E9C0-4D6D-AE3C-BF91DC09E45C}"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252C-0A53-47CE-950F-E6957DA10FE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B290-B047-4FC5-A5D6-92C2AAD30BB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8113-B4C9-4B20-8470-FBD26D4FD35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398B-477D-497D-B925-5250F6D63818}"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3AD1-30F4-4483-8E8C-186CB15E852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F197-6E3D-4E57-90F3-1134FFAEB37D}"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F90D-C491-41FA-A9BB-F4B05667694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DF97-70F7-4FF1-8971-C816A05AB43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3D00-93B3-40CC-A71E-13464C54A19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00F5-A768-4BAC-9442-BFF2F94E72F4}"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C89A-4778-4035-A268-9BA88A73B09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4517-2C4E-4F6E-BBAC-5BE24EF0576B}"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9BD6-BE28-473A-A7AC-55C62945E9E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4259-36CB-448B-B10C-FEEFE6D6248A}"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9EA3-E0C9-4873-826D-C9E428549AE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7761-4596-41A5-A059-33A6D350E11B}"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C970-3333-4D56-8D09-1D6F43452B7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59CE-1460-4C45-BFDD-18F58BE9B8C0}"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ECCD-4057-4615-8BD0-4F022F50319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C787-85DA-43C3-A6FF-0E382A6B5634}"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9D77-309E-4BA3-A2E8-0C48E67780B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2BFC-1E4D-44AE-B87F-8EA78308A25B}"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5BDE-29DC-4D2C-8691-4DC74734A77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F54-295D-4FE5-A2E7-ED0260B84CBE}" type="datetime">
              <a:rPr b="0" lang="en-US" sz="1200" spc="-1" strike="noStrike">
                <a:solidFill>
                  <a:srgbClr val="045c75"/>
                </a:solidFill>
                <a:latin typeface="Verdana"/>
              </a:rPr>
              <a:t>07/31/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5402-0FF8-4D48-8648-D1918EC902D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